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chimes.wav" ContentType="audio/x-wav"/>
  <Override PartName="/ppt/media/push.wav" ContentType="audio/x-wav"/>
  <Override PartName="/ppt/media/type.wav" ContentType="audio/x-wav"/>
  <Override PartName="/ppt/media/arrow.wav" ContentType="audio/x-wav"/>
  <Override PartName="/ppt/media/applause.wav" ContentType="audio/x-wav"/>
  <Override PartName="/ppt/media/coin.wav" ContentType="audio/x-wav"/>
  <Override PartName="/ppt/media/explode.wav" ContentType="audio/x-wav"/>
  <Override PartName="/ppt/media/camera.wav" ContentType="audio/x-wav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D68-7232-4744-8983-E3DAEC1B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43B-DFB3-4006-8933-95F5F6C2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616-913C-42A3-81D4-E13956DE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CBA-7454-4CEE-BB8D-5866EB2A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5AA2-36B7-4AEE-926B-CFE75A75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6E27-A8BA-442D-89B2-7E1A985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407D-2341-4E5B-AE19-B56CA222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3FEA-D6F1-424E-8826-D4238E79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AB8D-3CCE-4BFB-975C-10670931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6ABD-109C-4307-876E-17B6FB9A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9648-BDB6-4476-8C73-EA5162A3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6F5-F9C4-4858-BA6C-D14292C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9DC8-1F89-4D3C-B85A-ABA9FC8C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4838-22CB-4AFF-ADA5-D949DE01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7CEB-7E24-4C6A-9383-CD14C613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D1CA-8889-430B-8F43-E96EC1E8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8592-0AEE-4602-8D65-0F4D7932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8E5-A037-4656-AB6D-9F1DEF4D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DF8-5B27-4746-BB82-35E9C53D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130-5482-4998-B567-0633AD82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79A-25EC-4F9D-9B14-069FB703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EAF-C2E5-4CEA-8F09-23FFBD48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B19-CC38-4FA5-A06E-18F5EBFE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090-0E1D-4076-A6CC-5D42CE1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0ECB-109F-450C-BD12-1D4165237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5F33-4B67-4379-9CD1-DCF4E4265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right-house.com/" TargetMode="External"/><Relationship Id="rId3" Type="http://schemas.openxmlformats.org/officeDocument/2006/relationships/hyperlink" Target="http://www.nasm.com/" TargetMode="External"/><Relationship Id="rId4" Type="http://schemas.openxmlformats.org/officeDocument/2006/relationships/hyperlink" Target="http://www.inventors.com/" TargetMode="External"/><Relationship Id="rId5" Type="http://schemas.openxmlformats.org/officeDocument/2006/relationships/hyperlink" Target="http://www.kidsclick.com/" TargetMode="External"/><Relationship Id="rId6" Type="http://schemas.openxmlformats.org/officeDocument/2006/relationships/hyperlink" Target="http://www.yahoo.com/" TargetMode="External"/><Relationship Id="rId7" Type="http://schemas.openxmlformats.org/officeDocument/2006/relationships/hyperlink" Target="http://www.cybersleuth.com/" TargetMode="External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Wright Brother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al, Kaitlin, Norbert, Andy, Devin, and Vanes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wright-hous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nasm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www.inventor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www.kidscli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www.yahoo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www.cybersleuth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8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bur and Orville Wright flew 54 seconds on the same day they flew 12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bur and Orville noticed that the aircraft did not have suitabl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winter of 1902-1903, their mechanic helped them build a gasoline eng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Wright brothers died three years after his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s notice that the bigger they made the airplane the worse it fl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  <p:sndAc>
      <p:stSnd>
        <p:snd r:embed="rId2" name="pu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father bought them a toy helicopter that encouraged them to make the air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wo older br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Wilbur got hit in the face by a bat he felt nerv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s loved inventing airp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’s houses had two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s were asked by the army and the French to make airp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2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ville  flew the aircraft in Fort Meyer,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flights went well until Orville lost a propeller and cras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crashed he broke his leg and killed his passe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ook them 3 years to make the 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08 Orville Wright made the first flight for one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bur Wright died when he was 4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4647960" cy="264816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’s planes wingspan was 12 Centi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ight of the aircraft was 274 kil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ook 12 horse power to fill it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aircraft was called 1903 Wright Fl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ville Wright flew the 1903 Wright Fl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right brothers flew and tested a gl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8120" y="4343400"/>
            <a:ext cx="388620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5:28:55Z</dcterms:created>
  <dc:creator>Montour School District</dc:creator>
  <dc:description/>
  <dc:language>en-US</dc:language>
  <cp:lastModifiedBy>Montour School District</cp:lastModifiedBy>
  <dcterms:modified xsi:type="dcterms:W3CDTF">2008-05-14T15:31:26Z</dcterms:modified>
  <cp:revision>8</cp:revision>
  <dc:subject/>
  <dc:title>The Wright Brothers </dc:title>
</cp:coreProperties>
</file>